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176-8B1A-4308-84FD-98995B54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BB9-CA61-47B1-9423-17B7B28F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B88-6B54-48B5-AB57-127DCC1C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21C-D887-448A-9CE5-3D484876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BBA-6263-483C-A0D2-A5B15190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F85-3EF4-4DAE-9EF2-AED5516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C45-32B4-44E7-8E2B-33297E38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013-7BE1-421B-B416-1E65E20D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766-8569-49E4-BE65-274DB65F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C62-F46A-42BB-8074-5ABE06D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B70-586D-4DF4-B0F3-7E9AA39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7D5-EEE5-49FB-9F9B-10C0E0A1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E29-318C-4332-85E3-D575197A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parkison/SE/javadoc/index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ian Park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orkflow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00-917C-4B76-861A-B9AAA598922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Java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JavaRMI.  Also, LotusNotes must be running for authentication and notification.  The database subsystem also needs a database backend to store all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8EC-D475-4661-BBB7-E2C41A3137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About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has a 254 character limit on field sizes when using JDB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only supports JDBC 1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is currently looking at other DBMS’s to use as the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27F-7767-49E9-B409-9B2853BD82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elds need to be specified to the Workflow team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will be adding additional fields, mostly for internal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s will be accessible by other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EA2-E634-4026-9BF0-C69424BA00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_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_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ed_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 names cannot be used by other subsyste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D63-3EE7-4C2C-94B3-13C841E583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to front end is defined and read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 end server access to database is proceeding in ear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and Notification subsystem are somewhat lacking i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is in t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C5C-BBCE-4BFE-8922-FBEAA29F2E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362320"/>
            <a:ext cx="5638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" y="182880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 2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0840" y="18288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895480"/>
            <a:ext cx="2361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5200" y="182880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1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352680"/>
            <a:ext cx="3124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55440" y="175248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9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680" y="4114800"/>
            <a:ext cx="816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not decided on the exact order of implementation for each subsystem.  We’ll take whatever we can 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483-7075-4219-98BC-18AB5642CD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MI the best way to do the net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atabase will replace Lotus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dead network conn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we going to implement and test all of this in a timely man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C57-D7B1-4FC8-89A1-658AFCFDEA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, an IETM author in Montana, finishes his first draft and needs to submit it to the Authoring Database for review.  (submitDocumen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Client notices that this is the first time Jack has accessed the database, and asks him to login. (authenticateUser(), which is not a public meth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A60-926C-43C3-B654-C537CDF2E1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uccessful authentication, the DBClient initiates a call to the DBServer to carry out the submit request. (API undec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successful completion of the task, the ID of the newly submitted document is retu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 realizes this is the last thing he needs to do today, and logs out.  (logou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E37-E2AC-46FF-855C-E841437B25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874880"/>
            <a:ext cx="3200400" cy="16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895480"/>
            <a:ext cx="1768320" cy="4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057400"/>
            <a:ext cx="176832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7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6258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905120"/>
            <a:ext cx="46483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4861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0750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8640" y="201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3560" y="197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968560"/>
            <a:ext cx="17524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4782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6877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267080"/>
            <a:ext cx="914400" cy="1189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3360" y="47530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9240" y="3387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9240" y="401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33876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us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7880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3808440"/>
            <a:ext cx="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01000" y="2478240"/>
            <a:ext cx="0" cy="90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31082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247824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476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827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010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31082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3808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451008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87600"/>
            <a:ext cx="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4360" y="4648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68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76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 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 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B4D-AD7A-4638-8492-3482A91A21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th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ubsystems should only interact with the DB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Server creates threads for each connection from the Network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the authentication and notification subsystems will be thread-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BB-41F1-49D1-899C-9AEFF1059E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mous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Datatyp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Read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Writ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ubscrib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earchableData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ABB-81C4-463C-A211-EE19C2D76F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mitDocument(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retrieveDocument(int docID, String datatype, boolean forRe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pdateDocument(int docID, 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listDocuments(Collection criteria, Collection desired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59E-2259-44A2-9C40-0A5CCE62FE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D69F-7253-4C72-BCA1-9E3E0AE0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, int DocID, String data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Usernam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logo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ontrib.andrew.cmu.edu/~parkison/SE/javadoc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PEDD, desktop – we’re not the bottleneck in hardware nee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Dedicated STARS DB Server with 100-300 GB of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/Server: Any network connection, but the faster, the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F30-A856-425B-9C18-B879E13A85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parkison</cp:lastModifiedBy>
  <cp:lastPrinted>1999-11-04T21:32:38Z</cp:lastPrinted>
  <dcterms:modified xsi:type="dcterms:W3CDTF">1999-11-23T19:53:56Z</dcterms:modified>
  <cp:revision>26</cp:revision>
  <dc:subject/>
  <dc:title>Title</dc:title>
</cp:coreProperties>
</file>