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FDF-0BA3-4123-82CC-CE93D05F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6FD-5313-4CDB-9408-99588FD9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1E4-7017-4014-BC49-33AA007C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C50-E2CE-4327-B72F-80A5AF39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569-6AC3-432B-B2D7-E8F316C8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5FA-30E9-4FBD-B3AF-CD79C0F1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0FA-7DD0-4DF9-9A91-A2FE1F8E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173-59B8-4CA1-936E-5B2C77CD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DB1-D1C1-43D9-A6B8-604DA7FA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C0E-DC98-41AE-9780-592FEEC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4B1-F93D-4EE2-A9D0-B1ABC0CB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FA5-9855-4769-9DAA-9F65A546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2E4A-8AD1-4272-ADC3-3A5CD90F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D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9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2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heng Guang Zh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odeling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We N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Workf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store and retrieve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obtain a list of work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retrieve any work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and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ed with object design and is ready to imp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ublic API's finalized by Dec.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, Nov. 22 - Dec.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s, Dec.1 - Dec.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Testing, Dec. 4 - Dec.8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I We 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TARS.Modeling.Package" descr=""/>
          <p:cNvPicPr/>
          <p:nvPr/>
        </p:nvPicPr>
        <p:blipFill>
          <a:blip r:embed="rId1"/>
          <a:stretch/>
        </p:blipFill>
        <p:spPr>
          <a:xfrm>
            <a:off x="34920" y="1208160"/>
            <a:ext cx="91090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dware/Software Al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: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: Java3D package, CAD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We 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2209680"/>
          <a:ext cx="914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or starts up the system, authentic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mself, and gets a work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initialize(IETM ietm, Panel 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Thread modelthread =  new ModelTh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mentedReality.EventManager.addVectorEventListener(VectorListener v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thread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then goes to the plane and inspect as asked in the work order. If he find any defects, he would place a st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Location loc = Modeling.ModelControl.convertTo3D(int x, int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addSticky(Location loc, String ID, int severit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he finish with the work order,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s with server and exit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 is pretty much the same except it may want to highlight a specific st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highlightSticky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he may want to remove a sticky after he is finished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removeSticky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equence.Sequence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07:38:14Z</dcterms:created>
  <dc:creator>Cheng Zhao</dc:creator>
  <dc:description/>
  <dc:language>en-US</dc:language>
  <cp:lastModifiedBy>Cheng Zhao</cp:lastModifiedBy>
  <dcterms:modified xsi:type="dcterms:W3CDTF">1999-11-23T11:52:23Z</dcterms:modified>
  <cp:revision>4</cp:revision>
  <dc:subject/>
  <dc:title>ODD Presentation</dc:title>
</cp:coreProperties>
</file>