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CF18-D5E5-447E-9524-DCE17CCBC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1AE-1BBB-4F5C-A4AC-56700218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6BA-B150-429B-B29C-A1D624B8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BB2-528E-4197-9F2C-40CF1DBB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71B-D369-46BD-B244-DE3597DD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BFA-570E-45FE-90A9-13F8BC55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231-BBDD-4157-BBEB-66C112E9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1AB-F0A5-4B2E-B8FF-196056C1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FF5-E54C-4FA9-A540-145FEF79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6D5-E316-4F22-8E06-5DA032DC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F6A-A06F-4E91-9CC4-32A26393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655-3385-43DF-B6D2-58F0DA6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863-985B-455A-8C58-CF5C15F1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9468-472D-4E44-9073-8A29D0B24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fortson/ODD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24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7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chael For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ugmented Reality/UI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A37-3A78-46FA-BECD-526186CBE81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Interface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 Mani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register)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(unregister)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display status of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 to even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UIManager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6766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9C3-2280-445B-B14E-23B8EA89DB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y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placement of sticki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a changed position or orientation of the mech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Status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a change in the display of a UI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eventInterfaces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2955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D42-B491-4A50-ADF1-C5EBB99E82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Liste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EventListener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rInterfaceMana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to listen to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listenerInterface.jpg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243760" cy="24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879-384C-485F-8987-9A3690B356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 &amp; Ori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Dev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device (GPS) 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Position may simulate mov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device (3-axis Gyroscope) 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Orientation may simulate head mov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devices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37184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89E-E1AE-4C6C-AC4E-28FFEBA6A1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 Javad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va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865-FDFF-43EB-BC3F-83F59504CC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used by 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nd Destructor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at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authentication and retrieval of data for other sub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nance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ble for beginning an inspection/repair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7A4-03BF-4972-A9DF-9C0F378535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ed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initSequence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3915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0FE-88C1-4C2B-BA4D-D6690531F0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include a specific user interface, how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ation and termination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dependencies on the other sub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F2E-176B-4D9F-AA05-781CB00627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– Syste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except for specific user interface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ly formed/recognized UI subsystem is intended to complete this analysis and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43A-59F9-49D6-8622-37100F0255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– Object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except for miscellaneous implementation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handled during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4A3-6E1D-4810-B2DF-26C946416D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 from Project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/ Softwar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 Subsystem Objec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I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Diagram for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05B-EC1F-4E7D-A061-6CC9740351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–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s ASAP (after Thanksgi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61A-5C0D-4089-8073-64A8007968D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– Init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 turns on his PEDD and establishes a network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elects “Get Workorder” from the pulldown me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uthentication window appears, requesting username/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uthentication, a workorder is retrieved, the UI is configured for an insp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156-1C30-407B-9614-F47F2ACD78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ation –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libration panel is added to the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del view is added to the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view is from the front of the plane, approximately 5 feet from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 walks to the front of the plane and aligns his own view with th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 clicks “finish calibrati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’s position/orientation are now reflected in the model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E43-AAA1-423B-8337-F447C4C26D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ystemConnectivity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152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D55-4813-42D8-B9D3-C88AD6BF70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 concerned with man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ing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hardware is managed by other sub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DB7-FF76-4C01-9089-887F27109F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r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rInterface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Ev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EventListe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and Orientatio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 or end 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7D1-1682-43FB-A07A-F38A90521D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provide two use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Screen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ut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ed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to fit into one of the smaller pan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UserInterface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19368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90A-8A7A-4F0B-B4E7-C671DA1DF5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nterface Moc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uimockup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248000" cy="29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FC9-F203-4C5E-A762-8588E27DDC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Michael Fortson</cp:lastModifiedBy>
  <cp:lastPrinted>1999-11-04T21:32:38Z</cp:lastPrinted>
  <dcterms:modified xsi:type="dcterms:W3CDTF">1999-11-23T07:09:40Z</dcterms:modified>
  <cp:revision>15</cp:revision>
  <dc:subject/>
  <dc:title>Title</dc:title>
</cp:coreProperties>
</file>