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5C8-EDC6-4905-9484-DF37644F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F66-ECB8-4561-8B39-E3FB70D9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412-DE69-421C-8093-E1012263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905-3890-4208-A5C4-93F4CC72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E72F-625E-46E5-A3B9-4A673836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E4C-7BA6-4347-B530-C7605367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680-896C-4790-8DE3-54BA779C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F9D-F2C4-49DF-AF56-D3D30BFA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B79-1C76-4507-AB88-EF101458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453-FE13-467E-83C7-FD552417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085-8523-448B-9468-BC11BB6C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BC9-3B80-41A3-8367-8C367BD9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243F-F29B-45F2-B9CF-C44EDB399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29528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wortham/SE/index.html" TargetMode="External"/><Relationship Id="rId2" Type="http://schemas.openxmlformats.org/officeDocument/2006/relationships/hyperlink" Target="http://www.contrib.andrew.cmu.edu/~wortham/SE/index.html" TargetMode="External"/><Relationship Id="rId3" Type="http://schemas.openxmlformats.org/officeDocument/2006/relationships/hyperlink" Target="http://www.contrib.andrew.cmu.edu/~wortham/SE/index.html" TargetMode="External"/><Relationship Id="rId4" Type="http://schemas.openxmlformats.org/officeDocument/2006/relationships/hyperlink" Target="http://www.contrib.andrew.cmu.edu/~wortham/SE/index.html" TargetMode="External"/><Relationship Id="rId5" Type="http://schemas.openxmlformats.org/officeDocument/2006/relationships/hyperlink" Target="http://www.contrib.andrew.cmu.edu/~wortham/SE/index.html" TargetMode="External"/><Relationship Id="rId6" Type="http://schemas.openxmlformats.org/officeDocument/2006/relationships/hyperlink" Target="http://www.contrib.andrew.cmu.edu/~wortham/SE/index.html" TargetMode="External"/><Relationship Id="rId7" Type="http://schemas.openxmlformats.org/officeDocument/2006/relationships/hyperlink" Target="http://www.contrib.andrew.cmu.edu/~wortham/SE/index.html" TargetMode="External"/><Relationship Id="rId8" Type="http://schemas.openxmlformats.org/officeDocument/2006/relationships/hyperlink" Target="http://www.contrib.andrew.cmu.edu/~wortham/SE/index.html" TargetMode="External"/><Relationship Id="rId9" Type="http://schemas.openxmlformats.org/officeDocument/2006/relationships/hyperlink" Target="http://www.contrib.andrew.cmu.edu/~wortham/SE/index.html" TargetMode="External"/><Relationship Id="rId10" Type="http://schemas.openxmlformats.org/officeDocument/2006/relationships/hyperlink" Target="http://www.contrib.andrew.cmu.edu/~wortham/SE/index.html" TargetMode="External"/><Relationship Id="rId11" Type="http://schemas.openxmlformats.org/officeDocument/2006/relationships/hyperlink" Target="http://www.contrib.andrew.cmu.edu/~wortham/SE/index.html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17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0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racey Worth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spection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D68-0BD2-40D8-B97B-DDB36431802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I - Services needed by Mainte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Cli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submitDocument(Document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cument retrieveDocument(int docID, boolean forRea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updateDocument(int docID, Document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809880" y="1523880"/>
            <a:ext cx="4800600" cy="2209680"/>
            <a:chOff x="3809880" y="1523880"/>
            <a:chExt cx="4800600" cy="2209680"/>
          </a:xfrm>
        </p:grpSpPr>
        <p:sp>
          <p:nvSpPr>
            <p:cNvPr id="203" name=""/>
            <p:cNvSpPr/>
            <p:nvPr/>
          </p:nvSpPr>
          <p:spPr>
            <a:xfrm>
              <a:off x="4800600" y="1523880"/>
              <a:ext cx="3809880" cy="213336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23000" y="15238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257440" y="312408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638680" y="3428640"/>
              <a:ext cx="1371600" cy="763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2360" y="25142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00800" y="25142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20570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72200" y="175248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72200" y="1752480"/>
              <a:ext cx="7617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9200" y="17524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72400" y="2590560"/>
              <a:ext cx="0" cy="7621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05160" y="2285640"/>
              <a:ext cx="1371600" cy="30492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76560" y="1599840"/>
              <a:ext cx="1676520" cy="304920"/>
            </a:xfrm>
            <a:prstGeom prst="rect">
              <a:avLst/>
            </a:prstGeom>
            <a:solidFill>
              <a:srgbClr val="a3e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58000" y="1981080"/>
              <a:ext cx="1676160" cy="304560"/>
            </a:xfrm>
            <a:prstGeom prst="rect">
              <a:avLst/>
            </a:prstGeom>
            <a:solidFill>
              <a:srgbClr val="86b1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200040"/>
              <a:ext cx="1676520" cy="304920"/>
            </a:xfrm>
            <a:prstGeom prst="rect">
              <a:avLst/>
            </a:prstGeom>
            <a:solidFill>
              <a:srgbClr val="2cd48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76560" y="2895480"/>
              <a:ext cx="1676520" cy="304560"/>
            </a:xfrm>
            <a:prstGeom prst="rect">
              <a:avLst/>
            </a:prstGeom>
            <a:solidFill>
              <a:srgbClr val="c27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05360" y="2514240"/>
              <a:ext cx="1524240" cy="304920"/>
            </a:xfrm>
            <a:prstGeom prst="rect">
              <a:avLst/>
            </a:prstGeom>
            <a:solidFill>
              <a:srgbClr val="64dcd9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3428640"/>
              <a:ext cx="1905120" cy="304920"/>
            </a:xfrm>
            <a:prstGeom prst="rect">
              <a:avLst/>
            </a:prstGeom>
            <a:solidFill>
              <a:srgbClr val="b6da02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77B-D434-487C-99C3-A2AB9344DB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I - Services needed by Maintenance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Interf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addUI(UI newui, int fram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sition getPositi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809880" y="1523880"/>
            <a:ext cx="4800600" cy="2209680"/>
            <a:chOff x="3809880" y="1523880"/>
            <a:chExt cx="4800600" cy="2209680"/>
          </a:xfrm>
        </p:grpSpPr>
        <p:sp>
          <p:nvSpPr>
            <p:cNvPr id="224" name=""/>
            <p:cNvSpPr/>
            <p:nvPr/>
          </p:nvSpPr>
          <p:spPr>
            <a:xfrm>
              <a:off x="4800600" y="1523880"/>
              <a:ext cx="3809880" cy="213336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3000" y="15238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257440" y="312408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638680" y="3428640"/>
              <a:ext cx="1371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62360" y="25142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00800" y="25142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62560" y="20570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72200" y="175248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72200" y="1752480"/>
              <a:ext cx="761760" cy="838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29200" y="17524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72400" y="25905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05160" y="2285640"/>
              <a:ext cx="1371600" cy="30492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76560" y="1599840"/>
              <a:ext cx="1676520" cy="304920"/>
            </a:xfrm>
            <a:prstGeom prst="rect">
              <a:avLst/>
            </a:prstGeom>
            <a:solidFill>
              <a:srgbClr val="a3eff5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8000" y="1981080"/>
              <a:ext cx="1676160" cy="304560"/>
            </a:xfrm>
            <a:prstGeom prst="rect">
              <a:avLst/>
            </a:prstGeom>
            <a:solidFill>
              <a:srgbClr val="86b1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81680" y="3200040"/>
              <a:ext cx="1676520" cy="304920"/>
            </a:xfrm>
            <a:prstGeom prst="rect">
              <a:avLst/>
            </a:prstGeom>
            <a:solidFill>
              <a:srgbClr val="2cd4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6560" y="2895480"/>
              <a:ext cx="1676520" cy="304560"/>
            </a:xfrm>
            <a:prstGeom prst="rect">
              <a:avLst/>
            </a:prstGeom>
            <a:solidFill>
              <a:srgbClr val="c27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05360" y="2514240"/>
              <a:ext cx="1524240" cy="304920"/>
            </a:xfrm>
            <a:prstGeom prst="rect">
              <a:avLst/>
            </a:prstGeom>
            <a:solidFill>
              <a:srgbClr val="64dcd9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3428640"/>
              <a:ext cx="1905120" cy="304920"/>
            </a:xfrm>
            <a:prstGeom prst="rect">
              <a:avLst/>
            </a:prstGeom>
            <a:solidFill>
              <a:srgbClr val="b6da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5FC-3ADE-4BC5-8EDD-D8F2C2A9A4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I - Services needed by Inspection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id addSticky(Position stickylocation, ID sticky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id removeAllStickie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id highlightSticky(ID sticky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Manual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09880" y="1523880"/>
            <a:ext cx="4800600" cy="2209680"/>
            <a:chOff x="3809880" y="1523880"/>
            <a:chExt cx="4800600" cy="2209680"/>
          </a:xfrm>
        </p:grpSpPr>
        <p:sp>
          <p:nvSpPr>
            <p:cNvPr id="245" name=""/>
            <p:cNvSpPr/>
            <p:nvPr/>
          </p:nvSpPr>
          <p:spPr>
            <a:xfrm>
              <a:off x="4800600" y="1523880"/>
              <a:ext cx="3809880" cy="213336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3000" y="15238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257440" y="312408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638680" y="3428640"/>
              <a:ext cx="1371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360" y="25142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0800" y="25142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62560" y="20570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72200" y="175248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72200" y="1752480"/>
              <a:ext cx="7617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29200" y="17524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72400" y="25905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05160" y="2285640"/>
              <a:ext cx="1371600" cy="30492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76560" y="1599840"/>
              <a:ext cx="1676520" cy="304920"/>
            </a:xfrm>
            <a:prstGeom prst="rect">
              <a:avLst/>
            </a:prstGeom>
            <a:solidFill>
              <a:srgbClr val="a3e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0" y="1981080"/>
              <a:ext cx="1676160" cy="304560"/>
            </a:xfrm>
            <a:prstGeom prst="rect">
              <a:avLst/>
            </a:prstGeom>
            <a:solidFill>
              <a:srgbClr val="86b1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1680" y="3200040"/>
              <a:ext cx="1676520" cy="304920"/>
            </a:xfrm>
            <a:prstGeom prst="rect">
              <a:avLst/>
            </a:prstGeom>
            <a:solidFill>
              <a:srgbClr val="2cd4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76560" y="2895480"/>
              <a:ext cx="1676520" cy="304560"/>
            </a:xfrm>
            <a:prstGeom prst="rect">
              <a:avLst/>
            </a:prstGeom>
            <a:solidFill>
              <a:srgbClr val="c276e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360" y="2514240"/>
              <a:ext cx="1524240" cy="304920"/>
            </a:xfrm>
            <a:prstGeom prst="rect">
              <a:avLst/>
            </a:prstGeom>
            <a:solidFill>
              <a:srgbClr val="64dcd9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09880" y="3428640"/>
              <a:ext cx="1905120" cy="304920"/>
            </a:xfrm>
            <a:prstGeom prst="rect">
              <a:avLst/>
            </a:prstGeom>
            <a:solidFill>
              <a:srgbClr val="b6da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552720" y="2819160"/>
              <a:ext cx="152280" cy="76320"/>
            </a:xfrm>
            <a:prstGeom prst="line">
              <a:avLst/>
            </a:prstGeom>
            <a:ln w="316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5BF-F620-419B-8990-5417279D44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of Maintenance Sub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Analysis 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design 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design 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on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ing out how to use the WebManual IETM 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0AB-77BF-4194-B78C-A945070034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175248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600200"/>
            <a:ext cx="7238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200400"/>
            <a:ext cx="10666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1981080"/>
            <a:ext cx="6324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8280" y="50292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/22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0" y="50292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/09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4952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114300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4952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133720"/>
            <a:ext cx="53337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2400" y="50292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/05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06400" y="50292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/01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3200400"/>
            <a:ext cx="2286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17280" y="175248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(11/22/99-12/05/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0520" y="281952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 Testing (12/01/99-12/05/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4191120"/>
            <a:ext cx="27432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55560" y="3809880"/>
            <a:ext cx="403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Tests (12/04/99-12/09/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E57-E6A8-4FB2-8C8E-E102F841F3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memory do we need for the Maintenance subsyst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PI for the WebManual IETM vie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BF2-69FB-4FFC-9B63-82FDF588C8D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Obje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S Subsystem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Maintenance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Maintenance expects from other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668-BFA7-4873-AE08-7B55BF8C51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tenance Subsystem Scena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Insp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Discrep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A51-6012-4B6A-B05A-A7FC530CFA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enario - Report Discrepa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or Joe finds rust spots on the right wing of the airplane during a 14-day periodic rust inspection and reports i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shButt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is presented with a screen on which he can enter the sticky information. He presses a ‘Done’ button when he is finish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terStickyInfo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326-F93C-4711-A74C-DDFA9F48B2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ort Discrepancy (co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sticky information has been entered, a set of crosshairs will be displayed for Joe to identify the location of the st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tSticky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tStickyPositi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sticky will be instantiated and submitted to the datab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mitDocume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DE0-56BC-4952-940C-3DFF769549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ort Discrepancy Sequence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523880"/>
          <a:ext cx="7761240" cy="45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61240" cy="45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6392880" cy="4800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1447920"/>
            <a:ext cx="2483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pector Joe finds ru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ts on the right w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airplane during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-day periodic ru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pection and reports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1080" y="3276720"/>
            <a:ext cx="2206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 enters the stick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2160" y="4114800"/>
            <a:ext cx="2169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 identifie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the stick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2520" y="4952880"/>
            <a:ext cx="2646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w sticky will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ntiated and submit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he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08E-73E8-4B67-B530-DC2E71F6D9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tenance Obje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C46-2846-47F8-8456-1ECA2C2102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62120" y="1752480"/>
            <a:ext cx="7695720" cy="4190760"/>
            <a:chOff x="762120" y="1752480"/>
            <a:chExt cx="7695720" cy="4190760"/>
          </a:xfrm>
        </p:grpSpPr>
        <p:sp>
          <p:nvSpPr>
            <p:cNvPr id="147" name=""/>
            <p:cNvSpPr/>
            <p:nvPr/>
          </p:nvSpPr>
          <p:spPr>
            <a:xfrm>
              <a:off x="762120" y="1752480"/>
              <a:ext cx="7695720" cy="41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49680" y="1931040"/>
              <a:ext cx="2440080" cy="2496240"/>
            </a:xfrm>
            <a:prstGeom prst="rect">
              <a:avLst/>
            </a:prstGeom>
            <a:solidFill>
              <a:srgbClr val="ffd0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77680" y="1931040"/>
              <a:ext cx="4692600" cy="249624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49680" y="4784040"/>
              <a:ext cx="7320600" cy="9806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05320" y="478404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bas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50040" y="19310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uth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ork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53480" y="193104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6360" y="3179160"/>
              <a:ext cx="375480" cy="10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140720" y="3803400"/>
              <a:ext cx="656640" cy="6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09800" y="4159800"/>
              <a:ext cx="168912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5840" y="308988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8680" y="3089880"/>
              <a:ext cx="84456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86840" y="2554920"/>
              <a:ext cx="0" cy="80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67160" y="2198520"/>
              <a:ext cx="112608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67160" y="2198520"/>
              <a:ext cx="938160" cy="9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9200" y="2198520"/>
              <a:ext cx="0" cy="14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160" y="317916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52800" y="2822400"/>
              <a:ext cx="1689120" cy="35676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71280" y="2019960"/>
              <a:ext cx="2064960" cy="356760"/>
            </a:xfrm>
            <a:prstGeom prst="rect">
              <a:avLst/>
            </a:prstGeom>
            <a:solidFill>
              <a:srgbClr val="a3e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1720" y="2466000"/>
              <a:ext cx="2064240" cy="356040"/>
            </a:xfrm>
            <a:prstGeom prst="rect">
              <a:avLst/>
            </a:prstGeom>
            <a:solidFill>
              <a:srgbClr val="86b1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7760" y="3892320"/>
              <a:ext cx="2064960" cy="356760"/>
            </a:xfrm>
            <a:prstGeom prst="rect">
              <a:avLst/>
            </a:prstGeom>
            <a:solidFill>
              <a:srgbClr val="2cd4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71280" y="3535920"/>
              <a:ext cx="2064960" cy="356040"/>
            </a:xfrm>
            <a:prstGeom prst="rect">
              <a:avLst/>
            </a:prstGeom>
            <a:solidFill>
              <a:srgbClr val="c27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23800" y="3089880"/>
              <a:ext cx="1877400" cy="356760"/>
            </a:xfrm>
            <a:prstGeom prst="rect">
              <a:avLst/>
            </a:prstGeom>
            <a:solidFill>
              <a:srgbClr val="64dc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37240" y="3000960"/>
              <a:ext cx="2064960" cy="356040"/>
            </a:xfrm>
            <a:prstGeom prst="rect">
              <a:avLst/>
            </a:prstGeom>
            <a:solidFill>
              <a:srgbClr val="fff9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utho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3720" y="442728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826360" y="4873320"/>
              <a:ext cx="469440" cy="6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59200" y="4873320"/>
              <a:ext cx="28152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57280" y="4694760"/>
              <a:ext cx="2346480" cy="356760"/>
            </a:xfrm>
            <a:prstGeom prst="rect">
              <a:avLst/>
            </a:prstGeom>
            <a:solidFill>
              <a:srgbClr val="f990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1280" y="5229720"/>
              <a:ext cx="2064960" cy="356760"/>
            </a:xfrm>
            <a:prstGeom prst="rect">
              <a:avLst/>
            </a:prstGeom>
            <a:solidFill>
              <a:srgbClr val="fe7c4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25160" y="5229720"/>
              <a:ext cx="2064240" cy="356760"/>
            </a:xfrm>
            <a:prstGeom prst="rect">
              <a:avLst/>
            </a:prstGeom>
            <a:solidFill>
              <a:srgbClr val="fd87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uthent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57280" y="4159800"/>
              <a:ext cx="2346480" cy="356760"/>
            </a:xfrm>
            <a:prstGeom prst="rect">
              <a:avLst/>
            </a:prstGeom>
            <a:solidFill>
              <a:srgbClr val="b6da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RS Subsystem De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14F-EF6F-4268-9606-3113A73CFB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I - Services provided by Mainte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cky pickStick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d attachSticky(Sticky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o get and set the Workorder and Sticky attribu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d setStatus(int statu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doc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ntrib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andrew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mu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edu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~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ortham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SE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114800" y="1600200"/>
            <a:ext cx="4800600" cy="2209680"/>
            <a:chOff x="4114800" y="1600200"/>
            <a:chExt cx="4800600" cy="2209680"/>
          </a:xfrm>
        </p:grpSpPr>
        <p:sp>
          <p:nvSpPr>
            <p:cNvPr id="182" name=""/>
            <p:cNvSpPr/>
            <p:nvPr/>
          </p:nvSpPr>
          <p:spPr>
            <a:xfrm>
              <a:off x="5105520" y="1600200"/>
              <a:ext cx="3809880" cy="213336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160020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562360" y="320040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943600" y="3504960"/>
              <a:ext cx="1371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7280" y="2590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05720" y="25905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67480" y="2133360"/>
              <a:ext cx="0" cy="6858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77120" y="182880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1828800"/>
              <a:ext cx="7617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182880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77320" y="26668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2361960"/>
              <a:ext cx="1371600" cy="30492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1480" y="1676160"/>
              <a:ext cx="1676520" cy="304920"/>
            </a:xfrm>
            <a:prstGeom prst="rect">
              <a:avLst/>
            </a:prstGeom>
            <a:solidFill>
              <a:srgbClr val="a3e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62920" y="2057400"/>
              <a:ext cx="1676160" cy="304560"/>
            </a:xfrm>
            <a:prstGeom prst="rect">
              <a:avLst/>
            </a:prstGeom>
            <a:solidFill>
              <a:srgbClr val="86b1dc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86600" y="3276360"/>
              <a:ext cx="1676520" cy="304920"/>
            </a:xfrm>
            <a:prstGeom prst="rect">
              <a:avLst/>
            </a:prstGeom>
            <a:solidFill>
              <a:srgbClr val="2cd4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81480" y="2971800"/>
              <a:ext cx="1676520" cy="304560"/>
            </a:xfrm>
            <a:prstGeom prst="rect">
              <a:avLst/>
            </a:prstGeom>
            <a:solidFill>
              <a:srgbClr val="c27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10280" y="2590560"/>
              <a:ext cx="1524240" cy="304920"/>
            </a:xfrm>
            <a:prstGeom prst="rect">
              <a:avLst/>
            </a:prstGeom>
            <a:solidFill>
              <a:srgbClr val="64dcd9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14800" y="3504960"/>
              <a:ext cx="1905120" cy="304920"/>
            </a:xfrm>
            <a:prstGeom prst="rect">
              <a:avLst/>
            </a:prstGeom>
            <a:solidFill>
              <a:srgbClr val="b6da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9FB-A67C-4A9D-8299-9B023D7E57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0:21Z</dcterms:created>
  <dc:creator>Eric Stein</dc:creator>
  <dc:description/>
  <dc:language>en-US</dc:language>
  <cp:lastModifiedBy>Tracey Wortham</cp:lastModifiedBy>
  <cp:lastPrinted>1999-11-04T21:32:38Z</cp:lastPrinted>
  <dcterms:modified xsi:type="dcterms:W3CDTF">1999-11-23T13:44:55Z</dcterms:modified>
  <cp:revision>111</cp:revision>
  <dc:subject/>
  <dc:title>Title</dc:title>
</cp:coreProperties>
</file>